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ACA9-65D1-4FD5-A290-EAC32BA106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08C8-6279-4D4F-AD9C-FA57C6E651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8B9-D886-4330-BD7F-27D01D4E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26B-DA95-420E-A396-777919E1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2AF-8A4D-409C-9C57-509B82D4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CA4D-CB5D-4FF3-BF0A-3D984F3F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9F09-8156-478F-9555-A0CF47DB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D495-B75E-4E64-B5D3-912FDD3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46D9-597C-4A7B-B56F-426D9AF9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8860-2F31-4559-8158-73D94A44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67E3-F43C-4220-A749-B9E22D85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3047-411B-464D-A07F-1A8F7804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1DD8-B2F2-4DF4-99AC-65BDCACF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1DB-681E-49DB-834E-C60AA436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61D5-827A-4B51-A7ED-F1C8361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CE9E-4FA2-4F5B-A836-25EFA3E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5F2B-8467-4978-836A-2FD0EEDC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B96-3672-4BB2-89FC-C4473B53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CB03-029C-454A-BA79-C8EFD49E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F9CFC-99AE-4E49-B733-DBCA01D7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DFAB8-C1DA-4835-9EE0-6945248F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84AC0-C8BA-428B-9C1C-25C4480E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F017C-78C4-4811-B57D-E9D49114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9C87B-8E94-4D7F-9AE2-D276F355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81E-DCF1-4D71-8379-A6258DDD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17B35-6D23-4689-8C04-7634809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F59B3-0504-494B-A100-EB7FF50C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35AE8-C133-4ADC-88D0-EDDE57F7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6668D-112F-427A-9A37-6E453D0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C2945-E5AD-4336-B0F5-A3557296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B46F8-5F2B-4F22-BD78-162DA4E4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0D7F91-9F61-4071-90C4-BBDA271C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21F56-40C6-4292-BD00-746B440B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01D8-58EC-4625-AE6A-E72B717A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DFE10-191B-41C1-9216-7D8C68D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288-C3F9-41C1-9DCB-CF238E9A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FF65E-D872-4039-9B3C-3A857AF3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69D90-0FAB-4FA1-B3D1-E3E3508A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DDC8-BD09-4F25-81B1-793A7FC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BBC72-D3C3-400A-B124-A3BA74B8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0DF31-25DA-4564-A3DB-206416A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2E0C-9B9B-427F-B3A9-09B213B5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7D40-E972-4A3A-80BB-40601A9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E79A-FABF-4116-80C5-328794B1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5242-9F42-443E-8306-0ABF0CFF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07D49D-FE44-4AD7-AEF5-3C197345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9C4-01D9-4A39-9199-A1048859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A4240-2795-43A0-8B77-D9CAC5BF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FE163-DD51-4EB5-88C6-81A55B61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BA0F2B-E428-439E-9E83-9590B91C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83109-91B0-4694-85A1-15256B99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58AB0-3228-4480-982F-8A67593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94D09-93CD-443F-B894-112AC8A0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D86E0-3139-44FE-816F-0ED84C44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126D66-6AC9-45F5-A960-DF14B70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3D10A-40BE-4280-BBE0-243483F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079AA-6320-4144-983D-800F2D4F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511-C25C-4D88-BD2A-42F671F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82208-4BAC-4806-B669-CD982EA9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4D02-0C97-4170-93AC-DCCECBC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E01-9614-45AE-A922-B61C5C13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CDB-7B4F-4D4C-A896-ED8BA354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E8CE-9000-42FF-9576-97AB314524D2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7" name="Picture 2" descr="http://www.geo.fr/var/geo/storage/images/media/images/rubrique-environnement/la-france-nature/geo374-provence/portraits-france-nature-provence/noyer-dans-un-champ-de-lavande-en-provence/658639-1-fre-FR/noyer-dans-un-champ-de-lavande-en-provence_620x465.jpg"/>
          <p:cNvPicPr/>
          <p:nvPr/>
        </p:nvPicPr>
        <p:blipFill>
          <a:blip r:embed="rId2"/>
          <a:stretch/>
        </p:blipFill>
        <p:spPr>
          <a:xfrm>
            <a:off x="1143000" y="0"/>
            <a:ext cx="680724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d1e1e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16C6-9DF0-48EF-A99C-D5C63EC49EAA}" type="slidenum">
              <a:rPr b="1" lang="fr-FR" sz="1400" spc="-1" strike="noStrike">
                <a:solidFill>
                  <a:srgbClr val="d1e1e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D93D-0112-4700-9EF1-F6C18656A548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4a606e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0154-191D-4926-A2DB-03D93F2B3A10}" type="slidenum">
              <a:rPr b="1" lang="fr-FR" sz="1400" spc="-1" strike="noStrike">
                <a:solidFill>
                  <a:srgbClr val="4a606e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1544760" y="4654440"/>
            <a:ext cx="7589880" cy="7128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520B-819B-42F7-9A76-B6E17353A80A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’EST À TOI! – LEVEL 2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361960" y="6049440"/>
            <a:ext cx="6514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Unité 3 – Leçon 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8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Ton père _____   ___________ en Provenve?! (naître). En quelle ville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29718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51814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1" name="Picture 5" descr="http://europa.eu/abc/maps/images/regions/france/provence.gif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9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Ma mère _____   ___________ fâchée parce qu’elle n’___ pas ____ aller au Château des Baux! (devenir)/(pouvo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25146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7242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venu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9880" y="2419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5334120" y="2433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8" name="Picture 5" descr="http://www.weloveprovence.fr/photos/Bouches-du-Rhone/Les-Baux-de-Provence/3174078825-Chateau-des-Baux-Les-Baux-de-Provence-p.jpg"/>
          <p:cNvPicPr/>
          <p:nvPr/>
        </p:nvPicPr>
        <p:blipFill>
          <a:blip r:embed="rId1"/>
          <a:stretch/>
        </p:blipFill>
        <p:spPr>
          <a:xfrm>
            <a:off x="1828800" y="3429000"/>
            <a:ext cx="586728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10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 __  _____  un pull parce qu’il faisait très froid. (mettre)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171936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TextBox 4"/>
          <p:cNvSpPr/>
          <p:nvPr/>
        </p:nvSpPr>
        <p:spPr>
          <a:xfrm>
            <a:off x="2514600" y="180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3" name="Picture 5" descr="http://blog.funsherpa.com/wp-content/uploads/2009/12/ChicagoUglySweater.jpg"/>
          <p:cNvPicPr/>
          <p:nvPr/>
        </p:nvPicPr>
        <p:blipFill>
          <a:blip r:embed="rId1"/>
          <a:stretch/>
        </p:blipFill>
        <p:spPr>
          <a:xfrm>
            <a:off x="2895480" y="2819520"/>
            <a:ext cx="3306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11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icolette ___  _____  longtemps au sommet de la tour Magne. (rester)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TextBox 3"/>
          <p:cNvSpPr/>
          <p:nvPr/>
        </p:nvSpPr>
        <p:spPr>
          <a:xfrm>
            <a:off x="272736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3657600" y="180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té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8" name="Picture 5" descr="http://www.avignon-et-provence.com/tourisme-gard/nimes-ville-romaine/img/tour-magne-nimes-02.jpg"/>
          <p:cNvPicPr/>
          <p:nvPr/>
        </p:nvPicPr>
        <p:blipFill>
          <a:blip r:embed="rId1"/>
          <a:stretch/>
        </p:blipFill>
        <p:spPr>
          <a:xfrm>
            <a:off x="1600200" y="2895480"/>
            <a:ext cx="59529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Directions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vec un tableau, complétez les phrases suivantes avec le passé composé du verbe entre parenthès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1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u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(ms)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_____   ___________ la Grotte de la Cocalière pour trois heures hier! (visiter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2057400" y="173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42670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sit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4" name="Picture 7" descr="http://www.chateau-potelieres.com/Portals/0/Gallery/Album/33/Grotte%20de%20la%20Cocali%C3%A8re.jpg"/>
          <p:cNvPicPr/>
          <p:nvPr/>
        </p:nvPicPr>
        <p:blipFill>
          <a:blip r:embed="rId1"/>
          <a:stretch/>
        </p:blipFill>
        <p:spPr>
          <a:xfrm>
            <a:off x="1371600" y="3276720"/>
            <a:ext cx="64580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2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Michelle n’ _____ pas   ___________ à l’heure pour son train. (part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3108240" y="17859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TextBox 4"/>
          <p:cNvSpPr/>
          <p:nvPr/>
        </p:nvSpPr>
        <p:spPr>
          <a:xfrm>
            <a:off x="6324480" y="1752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rti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9" name="Picture 5" descr="http://www.luxurytraveler.com/tgv_east_1.jpg"/>
          <p:cNvPicPr/>
          <p:nvPr/>
        </p:nvPicPr>
        <p:blipFill>
          <a:blip r:embed="rId1"/>
          <a:stretch/>
        </p:blipFill>
        <p:spPr>
          <a:xfrm>
            <a:off x="1143000" y="2895480"/>
            <a:ext cx="701028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3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Nous </a:t>
            </a: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(mpl)</a:t>
            </a: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 _____     ___________ vendredi soir pour voir les Arènes d’Arles</a:t>
            </a:r>
            <a:r>
              <a:rPr b="0" i="1" lang="fr-FR" sz="40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(sort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2057400" y="1785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mm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4343400" y="1800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rt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4" name="Picture 5" descr="http://www.linternaute.com/sortir/magazine/photo/le-parc-france-miniature/image/arles-241506.jpg"/>
          <p:cNvPicPr/>
          <p:nvPr/>
        </p:nvPicPr>
        <p:blipFill>
          <a:blip r:embed="rId1"/>
          <a:stretch/>
        </p:blipFill>
        <p:spPr>
          <a:xfrm>
            <a:off x="1371600" y="2819520"/>
            <a:ext cx="64771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4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Ils _____   ___________ dans la rue pour voir les chars décorés de citrons et d’oranges. (descendre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144792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65760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cendu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9" name="Picture 5" descr="http://cigalemistralavande.c.i.pic.centerblog.net/8tgx1tmz.jpg"/>
          <p:cNvPicPr/>
          <p:nvPr/>
        </p:nvPicPr>
        <p:blipFill>
          <a:blip r:embed="rId1"/>
          <a:stretch/>
        </p:blipFill>
        <p:spPr>
          <a:xfrm>
            <a:off x="-228600" y="3429000"/>
            <a:ext cx="5143680" cy="3429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http://4.bp.blogspot.com/_9gyA0tzaNA0/R7wTfM-FOdI/AAAAAAAAEmY/tlAojJk017g/s640/IMG_2923.jpg"/>
          <p:cNvPicPr/>
          <p:nvPr/>
        </p:nvPicPr>
        <p:blipFill>
          <a:blip r:embed="rId2"/>
          <a:stretch/>
        </p:blipFill>
        <p:spPr>
          <a:xfrm>
            <a:off x="4495680" y="3429000"/>
            <a:ext cx="4819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5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Je/J’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fs)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_____   ___________ mes amis au Petit Camargue. (voir)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0574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42670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u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5" name="Picture 5" descr="http://www.creme-de-languedoc.com/images/map/Camargue2.gif"/>
          <p:cNvPicPr/>
          <p:nvPr/>
        </p:nvPicPr>
        <p:blipFill>
          <a:blip r:embed="rId1"/>
          <a:stretch/>
        </p:blipFill>
        <p:spPr>
          <a:xfrm>
            <a:off x="-228600" y="2895480"/>
            <a:ext cx="5781600" cy="3200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http://mas-bousquette.com/images/camargue-chevaux.jpg"/>
          <p:cNvPicPr/>
          <p:nvPr/>
        </p:nvPicPr>
        <p:blipFill>
          <a:blip r:embed="rId2"/>
          <a:stretch/>
        </p:blipFill>
        <p:spPr>
          <a:xfrm>
            <a:off x="5410080" y="2819520"/>
            <a:ext cx="3505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6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Vou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mpl)</a:t>
            </a: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 _____   ___________ très vite après votre visite guidée du Palais des Papes! (rentrer). Ça t’a pas plu ?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13372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ê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4343400" y="180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ntré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Picture 5" descr="http://upload.wikimedia.org/wikipedia/commons/thumb/f/f1/Main_entrance_of_the_Palais_des_Papes_-_20050823.jpg/250px-Main_entrance_of_the_Palais_des_Papes_-_20050823.jpg"/>
          <p:cNvPicPr/>
          <p:nvPr/>
        </p:nvPicPr>
        <p:blipFill>
          <a:blip r:embed="rId1"/>
          <a:stretch/>
        </p:blipFill>
        <p:spPr>
          <a:xfrm>
            <a:off x="2209680" y="3505320"/>
            <a:ext cx="47246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#7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w Cen MT"/>
              </a:rPr>
              <a:t>Elles _____   ___________ le Pont d’Avignon en vélo pour apprécier la vue sur le fleuve. (traverser). 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2057400" y="1809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TextBox 4"/>
          <p:cNvSpPr/>
          <p:nvPr/>
        </p:nvSpPr>
        <p:spPr>
          <a:xfrm>
            <a:off x="4267080" y="1824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versé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6" name="Picture 5" descr="http://www.iblogyou.fr/Photos/maxi/maxi_18179.jpg"/>
          <p:cNvPicPr/>
          <p:nvPr/>
        </p:nvPicPr>
        <p:blipFill>
          <a:blip r:embed="rId1"/>
          <a:stretch/>
        </p:blipFill>
        <p:spPr>
          <a:xfrm>
            <a:off x="1219320" y="3429000"/>
            <a:ext cx="64767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3-12-16T14:07:38Z</dcterms:modified>
  <cp:revision>46</cp:revision>
  <dc:subject/>
  <dc:title>Allez, viens! – Level 2</dc:title>
</cp:coreProperties>
</file>